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DFF-0F91-4C41-9B17-426ADE0E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E3E-C6BC-4FAE-8E6A-92682E4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263-40EA-48CA-8B5E-B672F20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DFD-2417-4959-8FC4-410B1800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585-182B-42D1-842D-0BCA665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781-5974-4999-8023-F889C8A1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BD9-C9DD-490C-B40B-90C252B6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F3D-62B7-49A0-ACA3-2A1C6B0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4BB-E458-4A54-AB68-68E89D3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667-6D4F-484A-B26F-6534F6D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D80-ED3C-4936-B753-2684B16C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BC0-E3B1-4267-B162-1662F13D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E367-1CDB-4C53-AA65-A4CABEEA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ntences must have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+ predicate = Complet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>
            <a:off x="762120" y="3276720"/>
            <a:ext cx="15238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66688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 is who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ss i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2666880" y="3200400"/>
            <a:ext cx="19814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 flipV="1">
            <a:off x="3657240" y="4038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Pj04022070000[1]"/>
          <p:cNvPicPr/>
          <p:nvPr/>
        </p:nvPicPr>
        <p:blipFill>
          <a:blip r:embed="rId1"/>
          <a:stretch/>
        </p:blipFill>
        <p:spPr>
          <a:xfrm>
            <a:off x="6553080" y="2819520"/>
            <a:ext cx="2081160" cy="312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tells what the subject of a sentence does or is. Predicates begin with a verb (action or lin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goes on hi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      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133720" y="3657600"/>
            <a:ext cx="1981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114800" y="4267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54100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27672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MCj02310510000[1]"/>
          <p:cNvPicPr/>
          <p:nvPr/>
        </p:nvPicPr>
        <p:blipFill>
          <a:blip r:embed="rId1"/>
          <a:stretch/>
        </p:blipFill>
        <p:spPr>
          <a:xfrm>
            <a:off x="7010280" y="4724280"/>
            <a:ext cx="1909800" cy="143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Cj02311070000[1]"/>
          <p:cNvPicPr/>
          <p:nvPr/>
        </p:nvPicPr>
        <p:blipFill>
          <a:blip r:embed="rId2"/>
          <a:stretch/>
        </p:blipFill>
        <p:spPr>
          <a:xfrm>
            <a:off x="152280" y="4334040"/>
            <a:ext cx="2514600" cy="1998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4038480" y="3276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4197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191120" y="3276720"/>
            <a:ext cx="157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4724280" y="32767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031720" y="3276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45720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ing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kinds of verbs that begin a predic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inking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show any action, but they link to an action verb.  Am, is, are, was, and were are linking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on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2819520" y="4191120"/>
            <a:ext cx="2057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87692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937040" y="4114800"/>
            <a:ext cx="154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295280" y="5334120"/>
            <a:ext cx="2514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3809880" y="5867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5029200" y="4191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4800240" y="5181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7010640" y="38862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995880" y="48369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le the subjec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line the pred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og came to visit us at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grade teachers looked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457200" y="2057400"/>
            <a:ext cx="1523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380880" y="3124080"/>
            <a:ext cx="51818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981080" y="2666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562720" y="3809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352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MCj04238900000[1]"/>
          <p:cNvPicPr/>
          <p:nvPr/>
        </p:nvPicPr>
        <p:blipFill>
          <a:blip r:embed="rId1"/>
          <a:stretch/>
        </p:blipFill>
        <p:spPr>
          <a:xfrm>
            <a:off x="838080" y="4648320"/>
            <a:ext cx="1886040" cy="18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395783"/>
          <p:cNvPicPr/>
          <p:nvPr/>
        </p:nvPicPr>
        <p:blipFill>
          <a:blip r:embed="rId2"/>
          <a:stretch/>
        </p:blipFill>
        <p:spPr>
          <a:xfrm>
            <a:off x="5791320" y="388620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Line 11"/>
          <p:cNvSpPr/>
          <p:nvPr/>
        </p:nvSpPr>
        <p:spPr>
          <a:xfrm flipH="1">
            <a:off x="2514240" y="198108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H="1">
            <a:off x="6095880" y="289548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719520" y="16365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300800" y="2627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31:52Z</dcterms:created>
  <dc:creator> </dc:creator>
  <dc:description/>
  <dc:language>en-US</dc:language>
  <cp:lastModifiedBy>Laura McDow</cp:lastModifiedBy>
  <dcterms:modified xsi:type="dcterms:W3CDTF">2010-08-26T00:26:00Z</dcterms:modified>
  <cp:revision>4</cp:revision>
  <dc:subject/>
  <dc:title>Subjects and Predicates</dc:title>
</cp:coreProperties>
</file>